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68C-4A85-43D1-8CAD-43CBE149085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3CBB-153D-49A7-BD25-1CF8F459CAB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9E5-8E4E-4437-BEFC-010488E8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531-1C49-4F98-8D76-51A77A31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BEE-79E8-44D7-AA67-7BFAEA1A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9A0-A6E1-42E7-B113-0AC3B1A0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B9FE-87F5-4176-86A3-88AE2903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997-C1DB-4E1E-B474-19F34D0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4883-A71A-491C-88B2-1DB10224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3AD6-169F-4A1C-9717-8658A5C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0DF6-95DF-4152-BB08-0ADA183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583D-2B99-4C23-A95B-614F1C6C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D6C0-5FD5-4E4E-B12F-AF018F7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80C-2865-4825-A1BB-4C79B698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AC2-2E69-4EC5-862D-7204D76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B8F-2CBC-4C43-A601-881A938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A359-7F05-4F64-AA81-38F4824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7C8E-5596-4FBF-9FFE-45B71BE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B94-C864-41C2-93ED-CAAE5186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D34-6082-4110-8C5A-04C6083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7CE-D593-4345-A132-3771C59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BA4-FE81-4C29-8E98-65BCA5E6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FEA-2CC0-4092-8BD9-CA119D32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8FE-2F8F-4B2C-A092-A25D884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109-E9BA-4103-B2D3-52ACA8D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76E-ACF9-4751-BBA7-ACE6B8A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ABF-4752-4548-9320-9932CD1B34E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5BA8-90F4-41D7-B0A1-D4B76A41E3F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katie@timeschange.or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r2"/>
          <p:cNvPicPr/>
          <p:nvPr/>
        </p:nvPicPr>
        <p:blipFill>
          <a:blip r:embed="rId1"/>
          <a:stretch/>
        </p:blipFill>
        <p:spPr>
          <a:xfrm>
            <a:off x="0" y="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536400" y="1603440"/>
            <a:ext cx="8455320" cy="2262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ocated at 365 Bloor Street East (Bloor/Sherbourne) Suite 170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ronto, 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Object 2" descr=""/>
          <p:cNvPicPr/>
          <p:nvPr/>
        </p:nvPicPr>
        <p:blipFill>
          <a:blip r:embed="rId3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rc4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allway"/>
          <p:cNvPicPr/>
          <p:nvPr/>
        </p:nvPicPr>
        <p:blipFill>
          <a:blip r:embed="rId5"/>
          <a:stretch/>
        </p:blipFill>
        <p:spPr>
          <a:xfrm>
            <a:off x="3429000" y="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r1"/>
          <p:cNvPicPr/>
          <p:nvPr/>
        </p:nvPicPr>
        <p:blipFill>
          <a:blip r:embed="rId6"/>
          <a:stretch/>
        </p:blipFill>
        <p:spPr>
          <a:xfrm>
            <a:off x="5410080" y="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obboard1"/>
          <p:cNvPicPr/>
          <p:nvPr/>
        </p:nvPicPr>
        <p:blipFill>
          <a:blip r:embed="rId7"/>
          <a:stretch/>
        </p:blipFill>
        <p:spPr>
          <a:xfrm>
            <a:off x="1905120" y="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9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10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are we Unique?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pecific to wo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 Workboo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nline Useful Links section on websit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pportunities to connect with mentors and local business communit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entury Gothic"/>
              </a:rPr>
              <a:t>Enhanced Referral process for Men/Youth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Parliament TCET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t 595 Parliament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Newcomer Information Centre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3 Charles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Youth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YES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555 Richmond Street Wes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f you have male clients, you can refer them to these locations directl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0" y="5257800"/>
            <a:ext cx="192096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To Ref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can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ll (416) 927- 1900 ex0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rop In during business hour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gn up for Getting Stared orientation sess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O Service Provider: Confirm with client that they are not registered with another agenc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    ‘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Ready’: Clients that are ready to look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r work or for training/caree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Loc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65 Bloor Street East Suite 1704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at Sherbourne Statio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ll us: 416 927 19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rvice Hours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day - Thursday 9:00 a.m. to 5:0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iday 9:00 a.m. to 2:3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are a perfume free environm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ontact Inform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Katie Didy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rketing/Outreach Coordinato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16-927-1900, ext. 222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f5f5f"/>
                </a:solidFill>
                <a:uFillTx/>
                <a:latin typeface="Century Gothic"/>
                <a:hlinkClick r:id="rId1"/>
              </a:rPr>
              <a:t>katie@timeschange.or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nd us on facebook for up to date employment and career information and advic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We are hiring!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0" y="5143680"/>
            <a:ext cx="2057400" cy="171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Facebook_Logo 19.gif"/>
          <p:cNvPicPr/>
          <p:nvPr/>
        </p:nvPicPr>
        <p:blipFill>
          <a:blip r:embed="rId6"/>
          <a:stretch/>
        </p:blipFill>
        <p:spPr>
          <a:xfrm>
            <a:off x="6629400" y="4267080"/>
            <a:ext cx="703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o We Ar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n-profit employment community agency helping women with their employment goals across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nded during the women’s movement in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ded by: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United Way and Ontario Women’s Directorat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erate as a collective agency with staff of 10 and volunteers to assist clie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lebrated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niversary last Nove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O Service Provid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itted to providing excellent customer service and client satisfact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ull suite of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cused on employment resul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lient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5-65 from all backgrounds and cultu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afe, supportive environ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nadian born citizens, permanent residence, refugee claima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me services are available to all clients regardless of statu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jority from St. Jamestown are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ing to find opportunities to network outside of their commun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nguage: Swahili, Spanish, Mandarin, French, Romania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lunteer Opportunitie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at We Do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SSISTE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er Planning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Search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Placement and Reten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NASSISTE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Career Strategy and Ontario Self Employment Benefi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ume Clinic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r Room (&amp; computer workshop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ource Centre (&amp; job board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5270400"/>
            <a:ext cx="1905120" cy="1587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and Un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 require counselling services, attend a workshop, or are referred to other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se clients will go into our CAMS-EOIS database system and will be required to give SIN #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Un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se needs are met using the Resource Centre, Resume Clinic, Second Career, or computers, including computer workshop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ligibility for 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employed/unemployed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ployment workshops are open for working 20 hours or l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 SIN numb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nguage: ESL Level 6 or LINC level 5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 currently registered at another EO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vice provider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3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Services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Search Workshop: 4 morning workshop offered each wee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: Offered every 5 week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Placement: based on ability to match skill set of client to employer need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Unassisted Service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: one on one appointmen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Career and OSEB: applications and referral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Tutorials: independent and flexibl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Workshops: Introductory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: resources for job search and career planning purpos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21:27Z</dcterms:created>
  <dc:creator>Katie</dc:creator>
  <dc:description/>
  <dc:language>en-US</dc:language>
  <cp:lastModifiedBy>aholmes</cp:lastModifiedBy>
  <dcterms:modified xsi:type="dcterms:W3CDTF">2011-07-08T18:45:10Z</dcterms:modified>
  <cp:revision>44</cp:revision>
  <dc:subject/>
  <dc:title>Times Change Women’s Employment Service</dc:title>
</cp:coreProperties>
</file>